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CEE-BD0C-4D77-9D05-BB587DAA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E7A-7E79-40A2-A050-851D5EF6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359-65D3-4967-A802-13B959E2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019-8B67-4157-90EF-6035CE1D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4DA-13FA-4E35-BF4F-6C9493D8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F65-FC47-4FF7-A86A-C8A62AF4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281-9452-4BC2-AABA-C3F1F7E7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910-F4C6-4699-9FC0-A986AA9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A18-7084-4A7F-9B94-D710149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487-9439-4990-BD9D-11DE61B8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B30-3D74-47F1-8932-307B4EA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CE3-FFD4-4CD0-9721-DE31A89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D5A9-5446-417D-BB84-09A1BA9D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THESIS STATE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hat is a Thesis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sis statemen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 idea being put forth in your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 thesis statement MU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only 1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 your introduction (usually it is the last line of your in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opinion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ke your reader go “Dahhhh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t’s 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are thesis stat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mmigrant should be able to become a U.S. citi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Obama took office in January, 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 Sponge Bob is stup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is better than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 kicks off their next space shuttle in Octo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rtion 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Geiman is the best teacher in B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  After school suspensions are a waste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4:17:57Z</dcterms:created>
  <dc:creator>BPS</dc:creator>
  <dc:description/>
  <dc:language>en-US</dc:language>
  <cp:lastModifiedBy>BPS</cp:lastModifiedBy>
  <dcterms:modified xsi:type="dcterms:W3CDTF">2009-09-29T14:32:42Z</dcterms:modified>
  <cp:revision>2</cp:revision>
  <dc:subject/>
  <dc:title>THESIS STATEMENTS</dc:title>
</cp:coreProperties>
</file>